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313-477F-4C55-B273-12AAC228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BC7-42B5-4310-813B-65EEA3F0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58E-DFF8-4A36-988A-308B2A3A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0B3-BC6E-47D6-AC40-EB90A7C7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2FF-F574-4816-A033-1EEC9BA3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A6CD-8DB3-470E-9C4D-7FA4ACA7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B281-5D62-45A5-AD3A-AA920A6F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F15-5BE1-466D-81E0-89020988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CFD-B4B2-4321-A392-038111F9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992-87F8-45FF-B2E8-CC7A14B6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8063-8A6F-4876-83A1-FB986237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F12-9AE3-49BE-9B34-12CA29DF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E262-4310-410A-AF8A-7913071E7A41}" type="datetime">
              <a:rPr b="0" lang="en-US" sz="1400" spc="-1" strike="noStrike">
                <a:solidFill>
                  <a:srgbClr val="ffffff"/>
                </a:solidFill>
                <a:latin typeface="Verdan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E7BB-7AF8-4989-96E6-4D30A7F6978F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APTER 14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tion 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Atomic Numb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Atomic Ma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Isotop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Radi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11280" y="685800"/>
            <a:ext cx="3798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dioactive Dec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33520" y="162252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atomic nuclei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hen they have about the same number of protons and neutr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33520" y="345132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nuclei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nst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cause they hav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o man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o f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eutr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58640" y="685800"/>
            <a:ext cx="3798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dioactive Dec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33520" y="144792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true for heavier elements such a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uran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luton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2666880"/>
            <a:ext cx="7238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se nuclei, repulsion builds up.  The nucleus must release a particle to become stab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533520" y="436248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lease of nuclear particles and energy is called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adioactive dec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8640" y="609480"/>
            <a:ext cx="3798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dioactive Dec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33520" y="139068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particles that are ejected from a nucleus include protons, 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om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umb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nucleus chang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33520" y="299088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33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en this happens, one element changes into another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33520" y="41562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hanging of one element into another through radioactive decay is called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ransmut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610200" y="609480"/>
            <a:ext cx="3598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nged Ident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144792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meric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xpels an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lpha particl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(2 protons &amp; 2 neutrons)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no longer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meric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10" descr="im56"/>
          <p:cNvPicPr/>
          <p:nvPr/>
        </p:nvPicPr>
        <p:blipFill>
          <a:blip r:embed="rId1"/>
          <a:stretch/>
        </p:blipFill>
        <p:spPr>
          <a:xfrm>
            <a:off x="990720" y="3200400"/>
            <a:ext cx="71625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610200" y="609480"/>
            <a:ext cx="3598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nged Ident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146988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transmutation, it becomes the element that has 93 protons,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eptun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7" descr="im56"/>
          <p:cNvPicPr/>
          <p:nvPr/>
        </p:nvPicPr>
        <p:blipFill>
          <a:blip r:embed="rId1"/>
          <a:stretch/>
        </p:blipFill>
        <p:spPr>
          <a:xfrm>
            <a:off x="990720" y="2819520"/>
            <a:ext cx="71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10200" y="609480"/>
            <a:ext cx="3598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nged Ident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33520" y="129528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ice that the mass and atomic numbers of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ptun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the alpha particle add up to the mass and atomic number of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meric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10" descr="im56"/>
          <p:cNvPicPr/>
          <p:nvPr/>
        </p:nvPicPr>
        <p:blipFill>
          <a:blip r:embed="rId1"/>
          <a:stretch/>
        </p:blipFill>
        <p:spPr>
          <a:xfrm>
            <a:off x="990720" y="2819520"/>
            <a:ext cx="7162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86880" y="685800"/>
            <a:ext cx="289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te of Dec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5800" y="16002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te of decay of a nucleus is measured by it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ALF-LIF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85800" y="26766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lf-lif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radioactive isotope is the amount of time it takes for half of a sample of the element to dec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87960" y="609480"/>
            <a:ext cx="5664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lculating Half-Life Dec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33520" y="1357200"/>
            <a:ext cx="7772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dine-131 has a half-life of eight day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1" descr="im62"/>
          <p:cNvPicPr/>
          <p:nvPr/>
        </p:nvPicPr>
        <p:blipFill>
          <a:blip r:embed="rId1"/>
          <a:stretch/>
        </p:blipFill>
        <p:spPr>
          <a:xfrm>
            <a:off x="3429000" y="1978200"/>
            <a:ext cx="5148360" cy="2925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533520" y="2057400"/>
            <a:ext cx="27432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start with a sample of 4 g of iodine-131, after eight days you wou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879480" y="5092560"/>
            <a:ext cx="65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only 2 g of iodine-131 remai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83040" y="685800"/>
            <a:ext cx="5664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lculating Half-Life Dec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33520" y="160344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adioactive decay of unstable atoms goes on at a steady pace, unaffected by conditions such as weather, pressure, magnetic or electric fields, and even chemical reac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4240" y="533520"/>
            <a:ext cx="4258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dentifying Numb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33520" y="1295280"/>
            <a:ext cx="761976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of different elements contain different numbers of prot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atomic numb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n element is the number of pro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3520" y="2378160"/>
            <a:ext cx="76197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omic numb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n element is the number of pro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ms of an element are identified by the number of protons because this number never changes without changing the identify of the el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58280" y="609480"/>
            <a:ext cx="3115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rbon Da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3520" y="140004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-14 is used to determine the age of dead animals, plants, and hum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33520" y="2546280"/>
            <a:ext cx="7543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living organism, the amount of carbon-14 remains in constant balance with the levels of the isotope in the atmosphere or ocea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33520" y="456552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balance occurs because living organisms take in and release carb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34240" y="533520"/>
            <a:ext cx="3115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rbon Da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533520" y="1219320"/>
            <a:ext cx="48006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rchaeologists find an ancient item, they can find out how much carbon-14 it has and compare it with the amount of carbon-14 the animal would have had when it was aliv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33520" y="484812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ing the half-life of carbon-14, they can then calculate when the animal liv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10" descr="im65"/>
          <p:cNvPicPr/>
          <p:nvPr/>
        </p:nvPicPr>
        <p:blipFill>
          <a:blip r:embed="rId1"/>
          <a:stretch/>
        </p:blipFill>
        <p:spPr>
          <a:xfrm>
            <a:off x="5410080" y="762120"/>
            <a:ext cx="339120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534240" y="533520"/>
            <a:ext cx="3115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rbon Da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3520" y="12952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geologists want to determine the age of rocks, they cannot use carbon dat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33520" y="230508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ead, geologists examine the decay of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uran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3520" y="33177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33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Uranium-238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cays to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lead-20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a half-life of 4.5 billion yea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535320" y="609480"/>
            <a:ext cx="5564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Synthetic El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33520" y="164160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sts now create new elements by smashing atomic particles into a target element, thereby increasing the atomic numb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09480" y="3429000"/>
            <a:ext cx="79250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ew element is called a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YNTHET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cause it is made by hum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ments with atomic numbers 93 and higher have been made in this w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610200" y="76212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533520" y="1622520"/>
            <a:ext cx="761976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articular type of atom can have a varying number of neutrons in its nucle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atoms of carbon have six neutrons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have seven neutrons and some have e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594240" y="0"/>
            <a:ext cx="1888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57920" y="60948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33520" y="159372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atoms are carbon atoms because they all have six prot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13" descr="im46"/>
          <p:cNvPicPr/>
          <p:nvPr/>
        </p:nvPicPr>
        <p:blipFill>
          <a:blip r:embed="rId1"/>
          <a:stretch/>
        </p:blipFill>
        <p:spPr>
          <a:xfrm>
            <a:off x="1066680" y="3119400"/>
            <a:ext cx="70106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4240" y="60948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33520" y="1160640"/>
            <a:ext cx="7848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three kinds of carbon atoms are called isotopes.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sotop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atoms of the same element that have different numbers of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EUTR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10" descr="im46"/>
          <p:cNvPicPr/>
          <p:nvPr/>
        </p:nvPicPr>
        <p:blipFill>
          <a:blip r:embed="rId1"/>
          <a:stretch/>
        </p:blipFill>
        <p:spPr>
          <a:xfrm>
            <a:off x="1066680" y="3119400"/>
            <a:ext cx="70106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4600" y="609480"/>
            <a:ext cx="2937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39392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om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ss numb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n isotope is the number of neutrons plus prot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11" descr="im48"/>
          <p:cNvPicPr/>
          <p:nvPr/>
        </p:nvPicPr>
        <p:blipFill>
          <a:blip r:embed="rId1"/>
          <a:stretch/>
        </p:blipFill>
        <p:spPr>
          <a:xfrm>
            <a:off x="1603440" y="2651040"/>
            <a:ext cx="59371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763200" y="609480"/>
            <a:ext cx="2937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3520" y="11844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find the number of neutrons in an isotope by subtracting the atomic number from the mass numb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Picture 8" descr="im48"/>
          <p:cNvPicPr/>
          <p:nvPr/>
        </p:nvPicPr>
        <p:blipFill>
          <a:blip r:embed="rId1"/>
          <a:stretch/>
        </p:blipFill>
        <p:spPr>
          <a:xfrm>
            <a:off x="1603440" y="2651040"/>
            <a:ext cx="59371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611640" y="609480"/>
            <a:ext cx="4394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rong Nuclear For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33520" y="1600200"/>
            <a:ext cx="7162560" cy="44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protons are positively charged, they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ay tend to rep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ach other just as the north ends of two magnets tend to push each other apar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when they are packed together in the nucleus with the neutrons, an even stronger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inding for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akes o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35680" y="685800"/>
            <a:ext cx="4394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rong Nuclear For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33520" y="1488960"/>
            <a:ext cx="7772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47640" y="1600200"/>
            <a:ext cx="803916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force is called 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rong nuclear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rong nuclear for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n hold the protons together only when they are as closely packed as they are in the nucleus of the ato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593880" y="0"/>
            <a:ext cx="188928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81040" y="37296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21:31:13Z</dcterms:created>
  <dc:creator>Cherie Hatton</dc:creator>
  <dc:description/>
  <dc:language>en-US</dc:language>
  <cp:lastModifiedBy>St. Aloysius</cp:lastModifiedBy>
  <dcterms:modified xsi:type="dcterms:W3CDTF">2012-10-17T15:12:42Z</dcterms:modified>
  <cp:revision>403</cp:revision>
  <dc:subject/>
  <dc:title>Slide 1</dc:title>
</cp:coreProperties>
</file>